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718A-4A32-43C7-902B-08EAA242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0C7-F4CC-4D1E-96E1-67569DA0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D6A-0731-4DFE-98D5-6FC41A9B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F4F7-C9A4-4D55-9D1D-FAAB295B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1116-9D76-4B7A-907C-15C35900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1D58-DD1A-4849-A5B9-0D2B355F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4663-D8EE-4C81-AACB-9A6A41AE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4BB1-35E6-4F25-842B-515D4B4A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5D41-9679-4230-9F4F-C6BAC7D2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DCFC-F9B7-4F88-B37F-CBC52AA2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EA52-7900-4A5F-AA6D-1894CB95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B41-6060-4E4B-ADD4-9DD9CC19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6A33-372B-486C-A83F-05103398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CED2-A2B2-4E9A-B9CB-73532679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4249-55E3-4973-B686-1EEBB189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8985-985A-4A15-8B6E-63377291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8AC2-B278-424C-91D8-C7EF2562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BBDC8-553C-40E3-9E34-25490FE4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C8E9E-7C44-48A0-9B63-6FE57BD4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B5FD-9E1A-4050-A85F-D0CE80F8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2E5EB-6E97-4023-BECC-509042A7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3B63B-BEDF-4A53-93C1-B1F5C488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11A8-F335-4D6F-A681-A27FDB43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B6DB2-A2BB-4894-8391-7B7921D7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349BE-3228-4E78-8851-6DB01033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58131-05A2-461A-9AF1-0DF4D88B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F409F-C468-4A8C-A02D-10FD6378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1D1B7-A1AD-4324-9292-48E1CEFE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DCAB8-D03F-4A0B-B0E7-44B44BEC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7937F-A621-4ABC-BFEA-94C10386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1349D-1FEA-4EC6-ADF6-F7257346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92B03-62EF-41A6-B572-23DC159D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CA3A8-3A9C-44BD-9968-E0E613C4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5B9-9F1C-41F3-A589-19C6024B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364AC-1AEF-49D7-BA4A-C9A10D11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F268B-D4B4-4509-BF1D-80D6B122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66AAF-F441-46E6-8FA6-060C69DF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5AE42-5E8C-4120-8033-8DE07EBC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60DDD-2DC3-4146-81EA-77305D1B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6FAD9-CA45-40D9-A9F5-19A4BDF0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BB598-06ED-4A73-A5F1-783E9CB5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6D22A-9416-40CD-A867-3085FB55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1B4C2-69A4-4F46-9B41-1E2932F2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79BE7-6306-4FD8-9F56-519BBB5D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FDA-BAB7-42D0-B681-74F35DC4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4EB76-57A6-4537-B140-EA5640F8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32BAA-64A7-4F4E-A50F-161ECEBE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2BFFF-9F44-49D8-BBB0-64D79275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A3AFF-20F1-4122-8FD3-9F3DA449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2DE29-D608-45B7-A312-4365E956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66107-2A96-45B1-A787-4362DD37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262F0-56DC-4F68-AF40-CADCF319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10F14-BF37-4F7B-9694-3B317D72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40611-2234-40A8-B068-D2F95D32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46C4B-5A47-402D-82AB-F02F70B2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31B3-1D1F-4AA6-ACC0-FA9AD4D2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14496-7529-4C78-A062-25E1AFEA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1A9-7ABF-440B-900E-59EBB55C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2C7-086D-4339-BF17-4183CCA3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3F8-87B3-4D88-9116-5E85E385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4FB2-BEC1-4089-89B8-164A5226958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782800"/>
                <a:gd name="textAreaBottom" fmla="*/ 2783160 h 2782800"/>
              </a:gdLst>
              <a:ahLst/>
              <a:rect l="textAreaLeft" t="textAreaTop" r="textAreaRight" b="textAreaBottom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22E6-71AB-47C4-A3C7-4A11BA2208BF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108B-21AA-4EC0-B861-93CBC2F8D3DA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73EF-7819-4FA0-AA0C-CBAB52AA38E5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037A-82F9-4351-B106-7E4736BF0032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66e1"/>
            </a:gs>
            <a:gs pos="100000">
              <a:srgbClr val="c1e6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46240" y="360000"/>
            <a:ext cx="873432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974680" y="1589040"/>
            <a:ext cx="76928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вила дорожные детям знать положено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и 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 Мустафаева Л.Т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омедова И.Р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Южно-Сухокумск    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6" name="Рисунок 3" descr=""/>
          <p:cNvPicPr/>
          <p:nvPr/>
        </p:nvPicPr>
        <p:blipFill>
          <a:blip r:embed="rId1"/>
          <a:stretch/>
        </p:blipFill>
        <p:spPr>
          <a:xfrm>
            <a:off x="870120" y="2573280"/>
            <a:ext cx="2352600" cy="2706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я для родителей в папке-передвижке «Дорожная азбука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4" name="Объект 3" descr=""/>
          <p:cNvPicPr/>
          <p:nvPr/>
        </p:nvPicPr>
        <p:blipFill>
          <a:blip r:embed="rId1"/>
          <a:srcRect l="0" t="0" r="-138" b="25190"/>
          <a:stretch/>
        </p:blipFill>
        <p:spPr>
          <a:xfrm>
            <a:off x="3344760" y="2406600"/>
            <a:ext cx="6462720" cy="3321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к по безопасности  в групп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7" name="Picture 4" descr="C:\Users\Админ\Desktop\IMG-20200205-WA0001.jpg"/>
          <p:cNvPicPr/>
          <p:nvPr/>
        </p:nvPicPr>
        <p:blipFill>
          <a:blip r:embed="rId1"/>
          <a:stretch/>
        </p:blipFill>
        <p:spPr>
          <a:xfrm>
            <a:off x="3597120" y="2233440"/>
            <a:ext cx="5643720" cy="3662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ла к игре-путешествию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В страну дорожных знаков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0" name="Picture 4" descr="C:\Users\Админ\Desktop\IMG-20200205-WA0011.jpg"/>
          <p:cNvPicPr/>
          <p:nvPr/>
        </p:nvPicPr>
        <p:blipFill>
          <a:blip r:embed="rId1"/>
          <a:stretch/>
        </p:blipFill>
        <p:spPr>
          <a:xfrm>
            <a:off x="3789360" y="2570040"/>
            <a:ext cx="6027840" cy="3818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юр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3" name="Picture 4" descr="C:\Users\Админ\Desktop\IMG-20200205-WA0000.jpg"/>
          <p:cNvPicPr/>
          <p:nvPr/>
        </p:nvPicPr>
        <p:blipFill>
          <a:blip r:embed="rId1"/>
          <a:stretch/>
        </p:blipFill>
        <p:spPr>
          <a:xfrm>
            <a:off x="3876840" y="2303640"/>
            <a:ext cx="5580000" cy="3404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ветофорики»  и «Дорожные знаки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6" name="Picture 4" descr="C:\Users\Админ\Desktop\IMG-20200205-WA0008.jpg"/>
          <p:cNvPicPr/>
          <p:nvPr/>
        </p:nvPicPr>
        <p:blipFill>
          <a:blip r:embed="rId1"/>
          <a:stretch/>
        </p:blipFill>
        <p:spPr>
          <a:xfrm>
            <a:off x="4054320" y="2443320"/>
            <a:ext cx="5354640" cy="3500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гает «Шапокляк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9" name="Picture 4" descr="C:\Users\Админ\Desktop\IMG-20200205-WA0012.jpg"/>
          <p:cNvPicPr/>
          <p:nvPr/>
        </p:nvPicPr>
        <p:blipFill>
          <a:blip r:embed="rId1"/>
          <a:stretch/>
        </p:blipFill>
        <p:spPr>
          <a:xfrm>
            <a:off x="3643200" y="2189160"/>
            <a:ext cx="5921640" cy="3970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тофор» принёс письмо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облемными ситуациями на дорог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Picture 4" descr="C:\Users\Админ\Desktop\IMG-20200205-WA0010.jpg"/>
          <p:cNvPicPr/>
          <p:nvPr/>
        </p:nvPicPr>
        <p:blipFill>
          <a:blip r:embed="rId1"/>
          <a:stretch/>
        </p:blipFill>
        <p:spPr>
          <a:xfrm>
            <a:off x="3589200" y="2104920"/>
            <a:ext cx="5824800" cy="3922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ая игра «Светофорчики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5" name="Picture 4" descr="C:\Users\Админ\Desktop\IMG-20200205-WA0003.jpg"/>
          <p:cNvPicPr/>
          <p:nvPr/>
        </p:nvPicPr>
        <p:blipFill>
          <a:blip r:embed="rId1"/>
          <a:stretch/>
        </p:blipFill>
        <p:spPr>
          <a:xfrm>
            <a:off x="3895560" y="1996920"/>
            <a:ext cx="5235840" cy="3573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7" name="Picture 4" descr="C:\Users\Админ\Desktop\IMG-20200205-WA0007.jpg"/>
          <p:cNvPicPr/>
          <p:nvPr/>
        </p:nvPicPr>
        <p:blipFill>
          <a:blip r:embed="rId1"/>
          <a:stretch/>
        </p:blipFill>
        <p:spPr>
          <a:xfrm>
            <a:off x="3657600" y="2089080"/>
            <a:ext cx="5907240" cy="3998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есня «Яркие огоньки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8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роекта подготовили воспитател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стафаеваЛ.Т. Магомедова И.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8000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84360" y="407880"/>
            <a:ext cx="991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50440" y="1088640"/>
            <a:ext cx="10052280" cy="51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срочный, познавательно-исследовательский 5-6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месяцев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и старшей группы, родители группы, воспитател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област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йствованы все образовательные обла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0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84280" y="231480"/>
            <a:ext cx="100188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ое сло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84280" y="2414520"/>
            <a:ext cx="1001880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marL="199800" indent="-1998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ждена, что метод проектирования - это технология включающая комплексную деятельность, которая даёт положительные результат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проекта «Правила дорожные детям знать положено» смогли заинтересовать родителей и их детей к совместной деятель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роект может быть рекомендован как воспитателям ДОУ так и родителям, так как он является необходимым звеном по профилактике ДДТ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99800" indent="-19980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ья, здоровья вам и вашим детям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84280" y="1584360"/>
            <a:ext cx="10018800" cy="42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острота проблемы диктует необходимость поиска новых форм и методов воспитания обучения по профилактике детского дорожно-транспортного травматизма, проведению профилактической работы с детьми и родителями воспитанников на основе современных педагогических технологий таких как проектная деятель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84280" y="1719360"/>
            <a:ext cx="10018800" cy="42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аксимально эффективных условий для детей старшего дошкольного возраста по формированию элементарных правил дорожно-транспортной безопасности в ходе реализации проекта «Правила дорожные детям знать положено» посредствам включения родителей воспитанников в образовательную деятельность, направленную на расширение и закрепление знаний воспитанников и их родителей ПДД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9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84280" y="267840"/>
            <a:ext cx="10018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84280" y="1669680"/>
            <a:ext cx="10018800" cy="518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навыков безопасного поведения и развития познавательных процессов необходимых для правильной ориентации на дороге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дить партнёрские взаимоотношения педагогов и родителе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е о правилах поведения пешехода на улицах город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способности к предвидению возможной опасности в конкретно меняющейся ситуации и построению адекватного безопасного поведения на дороге; 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с детьми знаний правил уличного движ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5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ребёнка ориентироваться в дорожных ситуациях на пути движения в детский сад и обратно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8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1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й результа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84280" y="1816200"/>
            <a:ext cx="10018800" cy="39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птимальных и необходимых условий для организации совместной деятельности с родителями по профилактике детского дорожно-транспортного травматизма ДДТТ 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Формирование у детей элементарных норм и правил дорожно-транспортной безопасности 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тие  дошкольникам  умения ориентироваться в дорожных ситуациях на пути движения в детский сад и обрат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84280" y="450360"/>
            <a:ext cx="100188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отац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84280" y="1536480"/>
            <a:ext cx="10018800" cy="46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ланированные мероприятия проводятся в непосредственной образовательной деятельности, в совместной деятельности воспитателей и детей  в виде:  бесед, викторин, выставок детских работ по ПДД, наблюдений за движением транспорта, чтение художественной литературы, отгадывания загадок, кроссвордов;  развивающие, познавательные, сюжетно-ролевые, подвижные игры, оформление уголка по «Правилам дорожного движения», разработка и использование маршрута «Дом – детский сад» совместно с родителя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8000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еализации проек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350720" y="2255400"/>
            <a:ext cx="10018440" cy="441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плакатов по безопасности дорожного движения с детьм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на лучший рисунок по ПДД «Светофорик» совместно с родителями на тему «Я пешеход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 родителями и использование маршрута «Дом – детский сад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занятий по ПДД, дидактических, сюжетно-ролевых иг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утешествие « В страну дорожных знаков»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произведений по тематике ПДД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стенды для родителей по ПД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5000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 детских работ по ПДД «Светофорик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2" name="Объект 3" descr=""/>
          <p:cNvPicPr/>
          <p:nvPr/>
        </p:nvPicPr>
        <p:blipFill>
          <a:blip r:embed="rId1"/>
          <a:srcRect l="17026" t="11927" r="14288" b="15937"/>
          <a:stretch/>
        </p:blipFill>
        <p:spPr>
          <a:xfrm>
            <a:off x="3452760" y="2070000"/>
            <a:ext cx="5965920" cy="3403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5:34:29Z</dcterms:created>
  <dc:creator>1</dc:creator>
  <dc:description/>
  <dc:language>en-US</dc:language>
  <cp:lastModifiedBy>Админ</cp:lastModifiedBy>
  <dcterms:modified xsi:type="dcterms:W3CDTF">2020-02-05T19:20:39Z</dcterms:modified>
  <cp:revision>123</cp:revision>
  <dc:subject/>
  <dc:title>Муниципальное бюджетное дошкольное образовательное учреждение «Новокараканский детский сад комбинированного вида»</dc:title>
</cp:coreProperties>
</file>